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31FB-42BA-4BF9-8C1A-22706636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12B-6022-49F1-A4B3-B149D056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FB93C-374D-40D8-8E38-77185BE0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E1F0E-BF15-4006-89D6-BC75EAF2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FC28C-E571-4210-ABA8-4199D372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F4F95-C01C-4A23-8FF0-0B658331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D32EF-B8C3-4C3A-AB33-E94AC95E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4AB4E-E4A4-4D05-8ABB-8627D9C6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8F067-E74A-4943-A361-457C697A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E2ED3-FF53-4FC7-B7C5-A6C4F7E4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47C2F-DC12-4444-BD19-C4D81BC3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BF377-8201-41CB-A9C8-0B75E308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E0D-4938-4712-895F-DBE902EE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2D879-014B-4456-8718-AA54FF60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A562F-7390-41DA-9905-3E5A7087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EC4EB-94D5-417B-933A-8E16568C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5309F-B10D-4B86-A63E-F4AA53B4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E0168-7269-4532-8EEA-8F8A5ED4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E1CC2-9552-4613-A3A8-44963C73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985A2-7B34-4919-9BEB-7EA219D9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8C892-6E17-4DB8-B8BF-CD04D419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435B0-2747-483E-B2CB-E7C39636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B8219-F6F1-4305-9976-098DF1E5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C52-0B3F-497A-9F98-F3370FD7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9964B-1C64-4A43-97C9-7823DC85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FC548-B4E7-45BF-85BF-10212D96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5B298-E7DD-48EA-AD9C-44DF8DE1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51E1D-2F95-4BA3-B8BD-C5441332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38853-73F3-45F8-B2C3-2891A70D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98F20-D5C8-48D8-AB42-0436DF9E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725E1-B696-47B9-AEE6-35967FEC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B6CA3-0E89-4AE7-89ED-7A7F605C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C97C5-C46E-45ED-9D30-68D5292B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9ABF8-0521-472A-9DCE-803FBCA2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9A5F-1633-4DC6-AD77-0C9CC3A2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A4014-8325-48E6-84B9-7072D6D8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3C3DD-9C36-42C9-B003-7136E881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47C8F-59E1-4AD4-BF31-071AE0BE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0A447-2B10-45DA-840D-DD95AA79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35F43-CD42-463D-8448-05B9316C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086FF-314F-4EBB-B390-9801429E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4E96D-14D8-487F-B54D-2045E13F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77EED-7B98-4562-8F05-DA6E432B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F7969-968A-4A70-9637-E146E97E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43343-D264-45FB-A164-6090028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D811-80A0-49F8-99BF-C6BFFB70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8BD91-899D-459C-9292-714B7964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8F6BB-206C-4145-B946-32CA5AFE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0E4FB-5C13-42E6-9ED8-9072A20A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8A97A-646B-4BDB-A000-7AAED1DC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FFE99-341E-4BBA-92F5-5F16B9F8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DA2B-F477-4B3A-9B61-BB54A18B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2093-EC6A-4B9C-A03B-C0FEF7AF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BB64-E2C2-4C2F-926E-E25D5ACB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CD39-DF2A-437C-8D27-1131B5BF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69FE-2888-4069-896A-8ABEB27A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854-0267-4EB1-8D43-0F745820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09D3-5C56-41D6-8973-1BEBBFDF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D602-5A57-4583-B493-C4BD0B4A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6AB2-4BB4-4188-8F19-93BB840C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5ED8-41CB-43FF-87F4-A1688014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78DF-187B-4221-ADAA-C4B011E6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AE2D0-D96C-4799-B9D9-3F9DE7D9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374F-2B7E-45D5-9682-1AD68981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DDD4D-5E3A-46D7-AA1A-6D5A762F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6E50E-5481-46C1-BF1D-4EF2044E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C7597-F724-43A5-A544-F0F6CF82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AC7-8BFC-4D0E-87F6-D2C3A68E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87B5-B9F4-4D14-9727-0F83C24B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6651-C216-4235-929D-DA77E82F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6796-D250-443E-A8DC-E43B68BF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4D73-32AE-4D82-BA22-971C8D25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2224-BF38-4CBE-BD7D-369E2C00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0ED72-2E4D-4703-BD98-BA193F61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6D82-CEC5-4237-A4C0-82E01FFC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3C44F-C333-4F57-B993-FDA956E5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A202-D894-4F4B-A7B4-6E1724EE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B1817-419F-496F-A015-FA6217A7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32A-11C3-40ED-9CEE-93A5A967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C2E37-4387-419C-8D9A-B02A22A3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13DFB-1C6C-439A-8975-A8B6FF93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16FD8-85B6-48B6-96A8-951D9861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9CC66-C6D4-47B0-BA06-365C6CAB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7E06B-E261-4227-A09B-E328FCEB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76D87-B5E1-426F-AD8C-55813A17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8760-30E9-4B8A-B1D0-A88701C3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7F08-9B1C-4DA9-A35C-5A771B68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FF535-A973-48EC-9C2E-9BD65520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711A2-DE89-4C0C-8AF2-9C6382ED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B90-619D-4284-9EED-4086D3D4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6782B-48D9-48C9-AE13-2AAD342E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D2128-D97D-407B-BDA1-1401E9E2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BE8AC-26B8-46C9-8889-388A0F54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B79CD-A416-42D9-B439-FCB15045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58006-55BD-43C2-B4A6-975EE135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E6440-6A47-4517-A1D9-F211CA68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7EBFD-ED94-4414-8E1F-F88ADB6D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CA436-664A-46E3-B0E1-BC69A31A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70152-5651-4C72-9AEA-67906B1E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97D2E-0F3D-4617-820D-0C8048CA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33C-7264-48F2-90C6-19768591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8C1A6-8287-418A-B43F-C5DC978A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585A3-E1C2-4EED-8116-0EC653EB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9A473-CE6B-4F06-828F-588D8415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ABF20-3728-4B8B-B41E-0F3679A5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570DB-31AD-421F-89AC-BDA186EB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39865-1FC3-460E-8DA4-DAB1BBF7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91B67-E91C-433A-B749-50890FF4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52415-F250-4659-ACB7-3CAA7F63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F15CE-9991-4DE7-8297-DFAA90CC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E40F9-E74C-46F5-A673-73BFBE1C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36D-E26B-4907-A5AB-0B6697BE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C9C94-1AAA-4C96-B589-35C26ED2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7B4BE-5F05-4B40-8198-72E55BCF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3CD46-E752-4593-9697-E35172B2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C602E-6ECA-4969-A979-8366A573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726AE-77BC-4AFE-829A-7A5C79B0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410C0-DDEF-4046-A958-91BBBF6A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15975-330F-41B0-A549-1473A417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8911C-CD72-47D0-BDBA-3C99E84E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ECA06-6209-4249-8019-C868C200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E6820-0EE7-497F-B7BA-0311EEF7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AC6-B4EB-4CCC-8F8F-AD6CF39C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16BBA-8397-4993-9D13-060D2FFA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574DA-4393-4C96-A921-89C9CF6A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D3488-C117-4E01-A48F-256FAFC3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51C88-41E9-477A-836F-CF93142E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838ED-B6BC-4666-9B7E-A3ED04D5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8D266-66BB-495F-AAB1-04ACF0F7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1F869-B1E3-4457-B2FB-7304AC42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984BB-F09F-4056-9369-A761E5E6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F8C96-2E1D-4222-89C6-68E73369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6EDA0-ECF8-4F8E-8D6A-CACE7483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C3B-28E8-40CA-969D-07E44C03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9F20B-FCAB-4E28-9E6A-52201F32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53EDA-B90C-498E-89DA-F721D3F7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2152F-C570-47AC-8B1B-DD0BD736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50DBB-C39D-49A5-8537-EAE44C50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94DE7-A2DB-4ED5-A174-C57ADE40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F353A-F067-4896-9FD0-E8A7045C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75DAC-0CB9-49FC-9B21-A0E5DB5D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E7147-1D97-4542-862F-188DD619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91129-864B-4E57-BB74-E4A373F3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F00EF-D350-4CAC-BD3D-B0085E78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9FDE-4CFD-4CFD-A750-E0DDACEA85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A47A-0BCB-4E91-B173-8587F2DE80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A858-A582-4217-84DE-4A817CD4F0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AD00-44B0-4424-8C0E-E95914EBA8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EE45-7BBF-4AB7-9E83-E72F769DBB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E492-F19A-4B0F-8D9A-D8B543E4FD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8612-C07D-440A-9A47-714B629757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534C-710B-4DB0-98DA-29A988F660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0697-D23E-4FFB-8559-B3A1DE8AB9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8B9E-9FC2-4C0C-B3C0-B5D94171A2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83C3-697D-47BA-89A0-284862888E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6469-BFA9-4F10-9357-013EC6799E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Georgia"/>
              </a:rPr>
              <a:t>Story Map</a:t>
            </a:r>
            <a:br>
              <a:rPr sz="4800"/>
            </a:br>
            <a:r>
              <a:rPr b="0" lang="en-US" sz="4800" spc="-1" strike="noStrike">
                <a:solidFill>
                  <a:srgbClr val="0070c0"/>
                </a:solidFill>
                <a:latin typeface="Georgia"/>
              </a:rPr>
              <a:t>Title and Author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3" descr="C:\Users\Long\AppData\Local\Microsoft\Windows\Temporary Internet Files\Content.IE5\DUVMK139\MC900439405[1].jpg"/>
          <p:cNvPicPr/>
          <p:nvPr/>
        </p:nvPicPr>
        <p:blipFill>
          <a:blip r:embed="rId1"/>
          <a:stretch/>
        </p:blipFill>
        <p:spPr>
          <a:xfrm>
            <a:off x="380880" y="380880"/>
            <a:ext cx="1381320" cy="1805040"/>
          </a:xfrm>
          <a:prstGeom prst="rect">
            <a:avLst/>
          </a:prstGeom>
          <a:ln w="0">
            <a:noFill/>
          </a:ln>
        </p:spPr>
      </p:pic>
      <p:pic>
        <p:nvPicPr>
          <p:cNvPr id="609" name="TextBox1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784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eorgia"/>
              </a:rPr>
              <a:t>Characters and Sett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2" name="Picture 3" descr="C:\Users\Long\AppData\Local\Microsoft\Windows\Temporary Internet Files\Content.IE5\ODED8T03\MC900432413[1].wmf"/>
          <p:cNvPicPr/>
          <p:nvPr/>
        </p:nvPicPr>
        <p:blipFill>
          <a:blip r:embed="rId1"/>
          <a:stretch/>
        </p:blipFill>
        <p:spPr>
          <a:xfrm>
            <a:off x="228600" y="304920"/>
            <a:ext cx="1133640" cy="1841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4" descr="C:\Users\Long\AppData\Local\Microsoft\Windows\Temporary Internet Files\Content.IE5\7FN7HBQR\MC900100940[1].wmf"/>
          <p:cNvPicPr/>
          <p:nvPr/>
        </p:nvPicPr>
        <p:blipFill>
          <a:blip r:embed="rId2"/>
          <a:stretch/>
        </p:blipFill>
        <p:spPr>
          <a:xfrm>
            <a:off x="7543800" y="685800"/>
            <a:ext cx="1314360" cy="1494000"/>
          </a:xfrm>
          <a:prstGeom prst="rect">
            <a:avLst/>
          </a:prstGeom>
          <a:ln w="0">
            <a:noFill/>
          </a:ln>
        </p:spPr>
      </p:pic>
      <p:pic>
        <p:nvPicPr>
          <p:cNvPr id="614" name="TextBox1" descr=""/>
          <p:cNvPicPr/>
          <p:nvPr/>
        </p:nvPicPr>
        <p:blipFill>
          <a:blip r:embed="rId3"/>
          <a:stretch/>
        </p:blipFill>
        <p:spPr>
          <a:xfrm>
            <a:off x="685800" y="2819520"/>
            <a:ext cx="784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blem and Solu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Picture 3" descr="C:\Users\Long\AppData\Local\Microsoft\Windows\Temporary Internet Files\Content.IE5\JN0ML23B\MC900078622[1].wmf"/>
          <p:cNvPicPr/>
          <p:nvPr/>
        </p:nvPicPr>
        <p:blipFill>
          <a:blip r:embed="rId1"/>
          <a:stretch/>
        </p:blipFill>
        <p:spPr>
          <a:xfrm>
            <a:off x="685800" y="152280"/>
            <a:ext cx="992160" cy="2133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C:\Users\Long\AppData\Local\Microsoft\Windows\Temporary Internet Files\Content.IE5\JN0ML23B\MC900078743[1].wmf"/>
          <p:cNvPicPr/>
          <p:nvPr/>
        </p:nvPicPr>
        <p:blipFill>
          <a:blip r:embed="rId2"/>
          <a:stretch/>
        </p:blipFill>
        <p:spPr>
          <a:xfrm>
            <a:off x="7315200" y="457200"/>
            <a:ext cx="1287360" cy="175248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1" descr=""/>
          <p:cNvPicPr/>
          <p:nvPr/>
        </p:nvPicPr>
        <p:blipFill>
          <a:blip r:embed="rId3"/>
          <a:stretch/>
        </p:blipFill>
        <p:spPr>
          <a:xfrm>
            <a:off x="685800" y="2819520"/>
            <a:ext cx="784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1:57:02Z</dcterms:created>
  <dc:creator>Long</dc:creator>
  <dc:description/>
  <dc:language>en-US</dc:language>
  <cp:lastModifiedBy>Long</cp:lastModifiedBy>
  <dcterms:modified xsi:type="dcterms:W3CDTF">2011-02-14T03:28:49Z</dcterms:modified>
  <cp:revision>5</cp:revision>
  <dc:subject/>
  <dc:title>Story Map Title and Author</dc:title>
</cp:coreProperties>
</file>